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6EEC-2413-412F-8DCF-2A80198E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559D-5CE9-4B66-BDC6-91378625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E2A6C-1A8D-4F8B-96C4-70FE492E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28954-17DB-43D7-A385-DF8382B5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9AA6A-766B-40A4-8772-73326A0A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0F2C8-9D36-4A10-A81D-65C4E1B8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F63C1-81C2-42C4-A493-D6B09123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4217B-2D23-459A-8E64-D1A10E81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54DA7-4802-4D57-A60B-A9CFA09C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AF273-C1BD-4DA1-B4A7-8896FABC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D5471-A5FF-4A20-804C-EE52E1E8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73A05-ACC1-4D7B-B0BF-35C141B4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28EC-D55A-42B2-8455-030378E9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B70F1-6B97-4610-BB86-8213B677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CB157-76E0-4799-A8CB-91CAF025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69190-B9B9-4D89-AC54-A2B0888F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178B2-2BCF-4DED-A4D2-72884815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AA888-5C80-4DC8-9545-E06C550F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A697E-6B2C-4D8C-AB69-C2A02A7E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5E09C-2A90-4760-A95E-CE1F6150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77D67-25A9-488B-A2B4-E062F6B5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EC58B-027E-4232-BB37-49BB8B1E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7C60A-BD3A-4571-BE04-FAE515E1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1062-8138-4FBF-A3D1-488A7644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42BA2-C36F-4B68-B760-2CA71559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569AC-A1F6-442C-B898-AB7016860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4ECC4-4CF2-4685-B510-6ACC645F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95199-6E60-486A-83CA-797D729E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73CE5-037E-4681-BC33-CE2CB650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27899-7CC0-4188-A0F5-15D12CFB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53619-658A-466A-BA25-7FBDE569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36DBE-7FC4-4F88-B519-2E4C3C50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68096-19FE-423B-A9CB-56D80A64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7F760-7B00-4DF9-AF2A-C62ADC42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28F4-6F29-494E-8C3E-592FD0F5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4969D-7309-46B3-BDFC-DCFF7672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E9366-A5AC-4718-A3B9-A46E9ED3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DC51E-D085-4C63-A14B-A8068234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0231A-4554-4FF5-8813-C4DF43D5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13ED16-A607-4EDC-B1FF-DAB799DF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744E6-4E52-49AB-8CD3-54EA0CC6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5CD79-D60B-4328-8882-701F5F76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DB6C9-1617-47A7-8417-9510B841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26006-A325-4B9A-84E0-0116B045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853A4-1D0B-4006-8460-52FDD912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226D-7E15-4EAF-8D05-B50C6077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6ECA5-D8EA-4748-A108-4E9350F5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9D574-803C-4C47-A518-D31144E0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478A3-57F0-48C7-8411-EF4E28E6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CEC07-D5AA-4CB4-AFB5-E689A817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62B0C-DE84-47F6-A23E-70EAA222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9BC2C9-D0BF-440F-8D17-EA1D9A09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F3F825-CF41-4F27-B942-7E54C8D2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4BB1A3-6EA9-42EB-BBDE-A44BDAF6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A58AA7-930F-452A-BABB-72D1E36A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0CABAF-F9FD-49A1-8250-A42B18B8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A4EF-92D3-4B5D-88CC-368D3F49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4E9C3D-C4A9-495D-AC09-26E51546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682E86-E57D-444A-9C9A-DEFEAC08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22D350-AC74-4A69-9FBD-B487CA23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8486C5-AE1F-4257-B0E4-A3D03A09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CC5EE3-138E-429B-9C35-6F7B1783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457535-D00F-4227-BE99-B56CDA82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D505F4-2015-409D-89E0-8F04B4F5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F3459B-1548-483C-B037-8A0F7F7D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E9ACD4-40C1-4B62-8274-74DC64A5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BED951-CD56-473A-88B7-A04B8F81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A59E-A72E-404C-89FC-F13D6A29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37A5C5-DCE4-4D44-B049-50FD6118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239070-F9D0-4FFD-8D08-642C68E3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786CE1-E360-4272-934E-ADE3675E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87EC77-6F36-4061-852B-BF8577D2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6F6160-04A2-4883-BFBD-0B42543B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F0C566-C115-4BD2-BFEF-BC212E99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4524B0-60B4-45C7-AB68-2C1A9FEB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5EAA97-A863-4371-A100-653780B4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EEFD5C-22E0-4A4B-8430-4954104D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6F8C27-FFCC-49A6-8F7D-7E51B281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0F71-F7E5-45D7-842B-7E504AE3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74351F-719A-49C2-B2FB-5D3E6F62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061A46-DE15-451C-B14F-75B11E94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021502-7EF5-46A9-B3D8-DB9D4DC2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7A9F01-BCDF-43FB-ADA6-078C83E8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72596F-AF45-48BE-AC10-6AA7DCF5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6F4967-F9E2-4C7E-BD8C-5E14EACF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C4EF2E-0681-4371-B30B-575A1E52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90ECE9-23E0-42A7-BF2A-17436219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29D1A0-20F1-4DA9-98BD-F7375120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1CA323-20E7-42D9-BD86-D064E14F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6AFE-2D98-4DC6-8EAA-8CD33039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3E0FAA-7B90-4577-94E6-497E40D6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C79FBE-6E9B-4A6A-AB7E-4FB6DDD4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831392-2BC3-4DCD-832D-2942B9BC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860114-2B87-4358-9832-8F262ADA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1409F0-D5FB-4A34-A288-7CA463DF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2897FF-6E05-4A30-AB8B-08C4B9BB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D3E0FC-E2E7-4A7B-A937-4615ABB2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140425-A2FE-4F84-BD72-69D7C429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F6B8E4-7F22-4C42-A256-243B41C7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EADE36-5CBC-4A0C-B0D4-6895AB0E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291C-9D30-4339-8065-6C02350A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73225A-AFAB-4D97-B0DA-1D9796DA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40FF68-3C17-47FF-93E0-683BAF56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D383BF-B1E7-42D4-9DD8-4718C46F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48FFE6-08E8-4A1C-AE0D-54D20344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211149-64A3-4D09-ACEB-98E072D7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50D499-E15B-4FB5-9AE4-8FCA90BF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C37C4A-BA1D-47D7-8D96-747CEDB8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6C5330-C67E-4ACC-AED1-625C5D6A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6720D8-338F-4232-A0E1-A94AE340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4E262A-9623-4BB9-95E8-22663248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545C-DB18-4B0F-9DFD-569EA39C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9256-7394-476C-B35C-1836CAAF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0163E9-97FF-465B-A593-B7084FFB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BB9344-990C-4A5A-B998-CD7027B3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0A1BDE-B9C2-45A6-A407-FE6F1DD3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01C557-49F6-4EC9-8ECA-A0464194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1F4B70-08C4-49C9-8F1D-23C925E6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57722E-E70D-4108-A501-8BAF4EF9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4CF0E6-9676-4855-8910-A77F51D2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6155C0-E697-457B-BCE6-AE7DD230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7F754D-7BBC-45EF-917E-CB096285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99DA87-5B53-4C19-A3D1-6E9D5598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8172-2F6B-4DEE-A6E7-B33D175F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EDD44C-25DF-4DE4-993B-CE4E8608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5CB40B-D001-4993-937D-C824995B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3D91E0-0FCC-4B96-BADB-B25AF881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58B300-E710-497C-AD49-1642502A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B8B2FE-3C12-4C1B-8E23-3E8F1209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921FB6-A39D-4224-B521-09CE6E35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3125A6-6285-4748-A4AF-287BBD18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74D9-544E-46CD-9F67-852CCB4F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A00B-DCD4-4903-808F-A418CEFF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B8E6-0228-4BB8-81CE-9A2D2ADDF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638E3-E770-4A7A-8EFA-2831F127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657D3-AE58-43FC-AFFB-67EECBF1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99113-5CC5-40B2-959C-0B14B332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BB0AD-3C1D-4E43-A976-67A7C0EC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16545-C19C-41A1-9A3A-88E38E99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27B6-43FC-424F-B0DC-7033B8EA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CE627-0380-4BAE-90B1-5C951C9E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35B94-3DAB-4E3B-8FD9-5B44F0E3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80350-3760-4F4C-8245-F21DCB2E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76FE3-65B2-458E-A741-45B5EC86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BFD4A-3EC6-4E14-AD4E-45F5025B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00424-5760-4D9F-8482-849C54F0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18EFC-68F5-4C2A-91DF-20112C5F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40BD4-983F-4B86-B98D-3C1B8DC3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4BF04-AE9F-42EA-B8CA-CCA4FE75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50637-2FC7-4B46-9B53-4513E0FF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9787-7B2D-414E-8E99-9DF86986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2E692-1085-42DD-8835-A7D005AD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E7356-2276-4F87-96FE-83DD3FA5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694D0-215C-467D-A263-4743764B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BD012-F6FA-45E0-B39C-4C8728C0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D7B22-6B18-4F89-AC90-89A11D86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E7D09-DD09-4028-A83C-C72E355D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A6561-00CE-4ABD-9EF4-DF6CB00B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1B845-FA81-48AC-AA7D-956B1328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704C3-A8DD-491E-83C2-F5E6D2C5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378D3-6503-4463-87F6-12CF8866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7134-DC34-4135-B2DC-C03AB0A9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19A40-4B73-4D5E-BBD4-68F81951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A44DD-27B9-4278-A391-0E312CA1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14B7E-817A-4A08-B40B-E6217BD9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8EF0B-45A6-4D78-AE09-2D3F0127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8D2F6-222F-491D-BE10-69E0BCC7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E7486-87CB-4808-AEBD-7CDC8313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D8B43-C256-4208-9BD8-4721DD9A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571B7-1D2A-4949-9A4C-0B24C45C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8981B-7D04-4652-9BBF-9BDB2F79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4CB20-B0E7-4162-8DFE-90FB63FC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67EB-E136-4635-9FE8-1730E496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3B7D6-89B1-4D5F-B774-93AFCE7D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2C2B5-DC43-4B2B-BEAC-85B7EACD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12288-081A-4695-AA44-A2ED2F00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F91E1-6A95-4E6C-846C-62EDFA11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F8567-4490-473D-8152-50FB3434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21088-F9E8-4041-AFE0-375BBC8D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6263B-3B6F-4658-882D-02BE3CBA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79FF8-0854-47C1-987E-A0DF0A18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FCE19-5CFA-4589-8F8E-B8F56F66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9850B-20CC-42AB-8B07-23974784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EAFA-9EB7-4135-8996-33FE064B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6904C-1078-493F-BDDD-0BF9FEFB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3F83D-9D1D-46DE-8A45-3C9F148E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9A65D-690D-4FDA-A105-F490F7E1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CD08A-898A-4819-A1BE-D949B8B0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40384-0C99-4C07-9731-C030A2F3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F0F84-1C0C-4D3B-B398-92DBDFB7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B9C9B-5748-4807-9FC2-06ECF006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6B6DD-53D4-45C9-9E85-4C0F6A58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36AE4-9670-4F59-9ED3-2F4172D0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5390F-FAFE-41BE-A933-93B25678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EB1C-8253-4756-BC4F-9ED26F04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10DBA-19C2-41E3-9A6A-78E23A50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FE4B1-3E64-40A8-A656-83702145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37332-3439-4012-8D29-B0DCB518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DABE2-41B9-4C28-A442-E96446E4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DCEE9-CC20-4DC2-B376-6F1F0376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387A9-C68C-4504-93DD-EC6A12E6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56B54-6A73-4193-A112-0A115827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5D108-70DC-466D-A309-358392A2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FEA84-F88B-47C0-B438-FE166C90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2C3B0-F8EA-4BDB-A4FD-1583ACDD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3268-7748-4BC7-A964-BCA742D4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E4990-CC3B-4796-9BAC-4D36AE49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CF134-E525-426D-A361-E0CFF3B1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106A3-B9AB-4B23-8F38-0912C4F1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0B82B-F58B-4EF1-80E3-C350EDFF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68123-7106-4978-9892-A1E6F708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2357F-4D24-4F18-BB19-9B5FD313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C75CA-7BD6-4A7F-9065-D093145D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5C911-F516-41A1-9CBC-C0CEE003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E1C5B-421E-4B75-8CB4-852C3C77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CC20C-3BDA-4E0E-9C51-472CF7D5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90A1-EF68-4E79-9CAC-2ACA5AEAC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83FC-4A96-4147-8438-E1C8DD0B3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04E2-35E7-4B34-BADA-35B560D3F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33A2-E891-4953-B44B-AE3684EB9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199C-4E6C-44FF-9A4A-438657700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5DE7-890A-4F9B-BEE3-039584D71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D2C8-2130-4AA6-AE2E-B3C1F773E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B9D9-F9CE-4408-B9C6-6D2FE70D3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C933-E68B-4289-9B78-31E1D5067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739B-005F-48E0-BC4C-6FB893C6F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109A-B1F2-482B-9150-7104BF558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92DB-D496-4721-AC00-0107160C6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6DD6-98A0-4AF6-98F5-F9A95B30A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DE40-0DAB-493E-ADD2-1B25B3793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440B-E01B-4EDF-B44E-3B122F36A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9B66-E6D5-4F41-9856-2B9448E6F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92F9-398D-4E5B-8FA5-7E686623A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EA7C-4287-4A8E-BAE7-1E7CBA306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c1c1c"/>
                </a:solidFill>
                <a:latin typeface="pointy"/>
              </a:rPr>
              <a:t>Chapter 13 and 15</a:t>
            </a:r>
            <a:endParaRPr b="0" lang="en-US" sz="5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22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What are the topic categories for informative speeches?  Describe each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ches about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4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Give at least two example topics for each category that you listed in # 2.</a:t>
            </a:r>
            <a:br>
              <a:rPr sz="2400"/>
            </a:b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4" dur="5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7" dur="50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"/>
                                        <p:tgtEl>
                                          <p:spTgt spid="7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400" fill="hold"/>
                                        <p:tgtEl>
                                          <p:spTgt spid="7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400" fill="hold"/>
                                        <p:tgtEl>
                                          <p:spTgt spid="7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Describe the ten guidelines for informative speaking.</a:t>
            </a:r>
            <a:br>
              <a:rPr sz="2400"/>
            </a:b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your informative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 your ideas and supporting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relev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ppropriat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ppropriate forms of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ffectiv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7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7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7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7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7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7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900" fill="hold"/>
                                        <p:tgtEl>
                                          <p:spTgt spid="7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7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7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7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3" dur="2000"/>
                                        <p:tgtEl>
                                          <p:spTgt spid="7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three questions should you ask yourself as you begin to prepare an informative speech?</a:t>
            </a:r>
            <a:br>
              <a:rPr sz="2400"/>
            </a:b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does the audience already know about this top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e audience need to know to understand this top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 present this information in allotted time so that the audience will understand and remember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is delivery?  How does it affect your speech’s message?  Give examples to illustrate your answer.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you say your speech is the deli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delivery shapes your image as a speak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changes your message in subtle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delivery can mask weak con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 delivery can undermine the impact of you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delivery can enhance any spe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Explain the four principles of non-verbal communication.</a:t>
            </a:r>
            <a:br>
              <a:rPr sz="2400"/>
            </a:b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of nonverbal communication is deliberate, while another part is unintent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nonverbal signals have universal mea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speaker’s verbal and nonverbal channels send conflicting messages, we tend to trust the nonverbal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erbal message you intend may be overridden by other meanings people attach to your nonverbal commun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7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is impromptu speaking?  In what situations do people engage in it?</a:t>
            </a:r>
            <a:br>
              <a:rPr sz="2400"/>
            </a:b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mptu speaking is speaking without advance prepa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engage in impromptu speaking whenever they are unexpectedly called upon to express themselves in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exam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y is speaking from memory only appropriate on rare occasions?  Explain your answer.</a:t>
            </a:r>
            <a:br>
              <a:rPr sz="2400"/>
            </a:b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ing from memory entails preparing and memorizing a written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memorization does allow the speaker to interact directly with the audience, without notes or a manuscript, the process of memorization can be time consu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of memorization can make the final delivery mechan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ization is most appropriate for brief spee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Explain the benefits and problems associated with speaking from a manuscript.</a:t>
            </a:r>
            <a:br>
              <a:rPr sz="2400"/>
            </a:b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ing from a manuscript entails delivering a speech from a text written word for word and practiced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ay increase confidence and will increase the ease of quoting the speech at a later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riting the manuscript, it is important that it be conversational.  Otherwise, the delivery may not be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ype of speaking takes a good deal of time to prepare, as much editing and practice are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Describe the benefits of speaking extemporaneous.  What must you do to make this an effective delivery method?</a:t>
            </a:r>
            <a:br>
              <a:rPr sz="2400"/>
            </a:b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ing extemporaneously is delivering a speech from notes or from a memorized out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develop your speech’s content and organization in order to effectively speak extemporaneous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lso very important to know your aud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Answer the following in short essay form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he following questions into a five-paragraph essay.  What makes delivery effective?  What are the elements of vocal delivery and physical delivery?  How they affect the effectiveness of a speech?  (for this study guide, just make a short out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What are the characteristics of speaking to inform?</a:t>
            </a:r>
            <a:br>
              <a:rPr sz="2800"/>
            </a:b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ing to inform has the goal of imparting knowledge, enhancing understanding, or facilitating the application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goal is not to persuade (although each of your listeners will bring their own biases to your topi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goal is assist your listeners in gaining further understanding of your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20:20:26Z</dcterms:created>
  <dc:creator>nuhs</dc:creator>
  <dc:description/>
  <dc:language>en-US</dc:language>
  <cp:lastModifiedBy>nuhs</cp:lastModifiedBy>
  <dcterms:modified xsi:type="dcterms:W3CDTF">2008-01-23T21:35:34Z</dcterms:modified>
  <cp:revision>8</cp:revision>
  <dc:subject/>
  <dc:title>Chapter 13 and 15</dc:title>
</cp:coreProperties>
</file>